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39F3-F381-4C95-86E0-10BC4737D7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5ACE-0026-45D2-A613-6EBA33DA9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07AD-16B4-411D-871A-FE3511057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E6C9-1578-408B-9981-EBC697AE5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F44F-0DB9-4D39-9A27-546A32B82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5F51-44B6-47FC-89D1-E130250C7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DD73-1553-4B91-9F78-8576E1990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0CEA-8E82-41F0-9BED-4533B78DE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E67B-2364-4EE9-9739-D7949DAAF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A05D-A20A-4887-8B69-B4988255E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0004-2A83-43DB-AE48-FB6EACDB2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BD6-1120-4D43-BAEF-8887FFF19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D158-DF46-4A5B-890A-67F585798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BA71-E480-419E-A1EF-A0F56130A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3C27-40C1-407E-AD68-A3CAB1029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E178-2E94-4CD7-8CE1-4C5AB24A2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71E1-9F9D-49C1-9BE5-785A821F7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94E-D981-4B8B-BC77-8F0A5696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314-F500-43FD-8C34-FB2CC63F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4E9-0E69-4286-A3AB-DE9E41DC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DAC-47B0-4085-8274-D45F01FA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9A7-79EC-487D-8530-C28BEBA0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CA8-8871-4FE8-BEC7-CB48DA46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52D-EC52-4C62-9CD7-5C882842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E8B-3173-47A4-8123-B6E9A315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A3D-DDCD-40D3-BD11-D670BBC3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38D-FE31-4D84-A702-D6BCBF2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D50-711C-40A2-979F-81434ABC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BDE-FAA9-4D95-8E93-5B09A1DC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C7EE-F523-4236-A63A-4864A1F863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079E-0CB4-43B6-A985-057923FC8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69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cosystems and Their Interactions</a:t>
            </a:r>
            <a:br>
              <a:rPr sz="3200"/>
            </a:br>
            <a:br>
              <a:rPr sz="3200"/>
            </a:b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Times New Roman"/>
              </a:rPr>
              <a:t>Energy Flow in Ecosystems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four types o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(not 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3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an you guess what they are?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rb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only eats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rn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only eats 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mn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eats both plants and 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compos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breaks down dead organic mater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308320"/>
            <a:ext cx="830556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 you show the energy transferred through (in) ecosyst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828800" y="4191120"/>
            <a:ext cx="5562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Times New Roman"/>
              </a:rPr>
              <a:t>food chains </a:t>
            </a:r>
            <a:r>
              <a:rPr b="1" lang="en-US" sz="3200" spc="-1" strike="noStrike">
                <a:solidFill>
                  <a:srgbClr val="898989"/>
                </a:solidFill>
                <a:latin typeface="Arial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Times New Roman"/>
              </a:rPr>
              <a:t>food we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839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  <a:ea typeface="Times New Roman"/>
              </a:rPr>
              <a:t>Food chain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how the sequence in which energy is transferred from one organism to the next as one eats the other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38080" y="27432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ood web"/>
          <p:cNvPicPr/>
          <p:nvPr/>
        </p:nvPicPr>
        <p:blipFill>
          <a:blip r:embed="rId1"/>
          <a:stretch/>
        </p:blipFill>
        <p:spPr>
          <a:xfrm>
            <a:off x="-458640" y="-428760"/>
            <a:ext cx="10061280" cy="7716960"/>
          </a:xfrm>
          <a:prstGeom prst="rect">
            <a:avLst/>
          </a:prstGeom>
          <a:ln w="0">
            <a:noFill/>
          </a:ln>
        </p:spPr>
      </p:pic>
      <p:sp>
        <p:nvSpPr>
          <p:cNvPr id="71" name="Sun 3"/>
          <p:cNvSpPr/>
          <p:nvPr/>
        </p:nvSpPr>
        <p:spPr>
          <a:xfrm>
            <a:off x="2743200" y="-685800"/>
            <a:ext cx="2666880" cy="2666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5"/>
          <p:cNvCxnSpPr/>
          <p:nvPr/>
        </p:nvCxnSpPr>
        <p:spPr>
          <a:xfrm flipH="1">
            <a:off x="1828080" y="990720"/>
            <a:ext cx="1067400" cy="3816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3" name="Straight Arrow Connector 6"/>
          <p:cNvCxnSpPr/>
          <p:nvPr/>
        </p:nvCxnSpPr>
        <p:spPr>
          <a:xfrm>
            <a:off x="1141920" y="2971800"/>
            <a:ext cx="153000" cy="53424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4" name="Straight Arrow Connector 8"/>
          <p:cNvCxnSpPr/>
          <p:nvPr/>
        </p:nvCxnSpPr>
        <p:spPr>
          <a:xfrm>
            <a:off x="2361960" y="4343400"/>
            <a:ext cx="610200" cy="3816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5" name="Straight Arrow Connector 11"/>
          <p:cNvCxnSpPr/>
          <p:nvPr/>
        </p:nvCxnSpPr>
        <p:spPr>
          <a:xfrm>
            <a:off x="5562720" y="5029200"/>
            <a:ext cx="838800" cy="216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6" name="Straight Arrow Connector 13"/>
          <p:cNvCxnSpPr/>
          <p:nvPr/>
        </p:nvCxnSpPr>
        <p:spPr>
          <a:xfrm flipH="1" flipV="1">
            <a:off x="7466760" y="2590560"/>
            <a:ext cx="686520" cy="12960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77" name="TextBox 15"/>
          <p:cNvSpPr/>
          <p:nvPr/>
        </p:nvSpPr>
        <p:spPr>
          <a:xfrm>
            <a:off x="5105520" y="-304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arine Food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875520" y="380880"/>
            <a:ext cx="74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 how do you make a food chain?!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80880" y="1371600"/>
            <a:ext cx="84582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of all, choose an ecosystem that you want to focus on. (You wouldn’t want to put together a rattlesnake, a penguin and a black bear because they obviously don’t live together in the same ecosyst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choose an organism at each level (producer, primary consumer, secondary consumer, tertiary consumer, etc.) that would actually eat the one befor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think about which direction your arrows need to point (arrows ALWAYS point towards where the energy is GO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ee next few slides for more informatio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533520" y="339840"/>
            <a:ext cx="8381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actually already made a food chain earli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ass is a producer because it makes its energy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lady bug is a primary consumer (or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grass which is a produ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frog would be a secondary consumer (or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lady bug which is a primary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nake would be a tertiary consumer (or 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frog which is a secondary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ll it’s a food ch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*Notice that the arrows are pointing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here the energy is go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not what is eating what)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457200" y="380880"/>
            <a:ext cx="8686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LLE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think of a food chain?  Do you think you can draw it (with pictures or words)?  Do you think you could draw it with the arrows going in the right dire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*Remember, describe the direction the arrows are pointing by saying “producer to primary consumer” or “secondary consumer to tertiary consumer.”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“left to right” because food chains/webs can be drawn in any dir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it 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nak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y both mean the same th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ou could even draw them from top to bottom or bottom to top!  Just make sure the arrows are pointing in the right direction (towards where the energy is GO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ry drawing your food chain on a scrap piece of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722600"/>
            <a:ext cx="8686800" cy="25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  <a:ea typeface="Times New Roman"/>
              </a:rPr>
              <a:t>Food web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show the many feeding relationships in an ecosystem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ood chain"/>
          <p:cNvPicPr/>
          <p:nvPr/>
        </p:nvPicPr>
        <p:blipFill>
          <a:blip r:embed="rId1"/>
          <a:stretch/>
        </p:blipFill>
        <p:spPr>
          <a:xfrm>
            <a:off x="0" y="-1905120"/>
            <a:ext cx="9144000" cy="9982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762120" y="763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arine Foo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n 4"/>
          <p:cNvSpPr/>
          <p:nvPr/>
        </p:nvSpPr>
        <p:spPr>
          <a:xfrm>
            <a:off x="3886200" y="5410080"/>
            <a:ext cx="2666880" cy="266724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6"/>
          <p:cNvCxnSpPr/>
          <p:nvPr/>
        </p:nvCxnSpPr>
        <p:spPr>
          <a:xfrm flipV="1">
            <a:off x="5257800" y="4801320"/>
            <a:ext cx="2160" cy="608760"/>
          </a:xfrm>
          <a:prstGeom prst="straightConnector1">
            <a:avLst/>
          </a:prstGeom>
          <a:ln w="31680">
            <a:solidFill>
              <a:srgbClr val="7f7f7f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OPHIC LEVEL PYRAMID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trophic=energ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ach step in the transfer of energy through an ecosystem is known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ophic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838080" y="2438280"/>
            <a:ext cx="7620120" cy="4191120"/>
            <a:chOff x="838080" y="2438280"/>
            <a:chExt cx="7620120" cy="4191120"/>
          </a:xfrm>
        </p:grpSpPr>
        <p:sp>
          <p:nvSpPr>
            <p:cNvPr id="89" name="AutoShape 3"/>
            <p:cNvSpPr/>
            <p:nvPr/>
          </p:nvSpPr>
          <p:spPr>
            <a:xfrm>
              <a:off x="838080" y="2438280"/>
              <a:ext cx="7620120" cy="419112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10"/>
            <p:cNvGrpSpPr/>
            <p:nvPr/>
          </p:nvGrpSpPr>
          <p:grpSpPr>
            <a:xfrm>
              <a:off x="1752480" y="2895480"/>
              <a:ext cx="5791320" cy="3645360"/>
              <a:chOff x="1752480" y="2895480"/>
              <a:chExt cx="5791320" cy="3645360"/>
            </a:xfrm>
          </p:grpSpPr>
          <p:sp>
            <p:nvSpPr>
              <p:cNvPr id="91" name="Line 4"/>
              <p:cNvSpPr/>
              <p:nvPr/>
            </p:nvSpPr>
            <p:spPr>
              <a:xfrm>
                <a:off x="1752480" y="5639040"/>
                <a:ext cx="57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"/>
              <p:cNvSpPr/>
              <p:nvPr/>
            </p:nvSpPr>
            <p:spPr>
              <a:xfrm>
                <a:off x="2666880" y="4648320"/>
                <a:ext cx="40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6"/>
              <p:cNvSpPr/>
              <p:nvPr/>
            </p:nvSpPr>
            <p:spPr>
              <a:xfrm>
                <a:off x="3504960" y="373356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7"/>
              <p:cNvSpPr/>
              <p:nvPr/>
            </p:nvSpPr>
            <p:spPr>
              <a:xfrm>
                <a:off x="3124080" y="5715360"/>
                <a:ext cx="3124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ducers (photosynthesi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8"/>
              <p:cNvSpPr/>
              <p:nvPr/>
            </p:nvSpPr>
            <p:spPr>
              <a:xfrm>
                <a:off x="3733560" y="487692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imary Consum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9"/>
              <p:cNvSpPr/>
              <p:nvPr/>
            </p:nvSpPr>
            <p:spPr>
              <a:xfrm>
                <a:off x="3809880" y="3809880"/>
                <a:ext cx="1828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ondary Consum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1"/>
              <p:cNvSpPr/>
              <p:nvPr/>
            </p:nvSpPr>
            <p:spPr>
              <a:xfrm>
                <a:off x="3733560" y="289548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tiary Consum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ultimate source of energy for all living things is the sun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IMG_1045.JPG"/>
          <p:cNvPicPr/>
          <p:nvPr/>
        </p:nvPicPr>
        <p:blipFill>
          <a:blip r:embed="rId1"/>
          <a:stretch/>
        </p:blipFill>
        <p:spPr>
          <a:xfrm>
            <a:off x="1371600" y="533520"/>
            <a:ext cx="62866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502920" y="457200"/>
            <a:ext cx="80474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se questions, then go back to the last slid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f you can answe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you think there are so many organisms on the bottom of the pyrami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there so few at the top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one level that is more important than the other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you compare this pyramid to something else to prove your poi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2"/>
          <p:cNvSpPr/>
          <p:nvPr/>
        </p:nvSpPr>
        <p:spPr>
          <a:xfrm>
            <a:off x="76320" y="15228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is a 90% energy </a:t>
            </a:r>
            <a:r>
              <a:rPr b="1" i="1" lang="en-US" sz="3600" spc="-1" strike="noStrike">
                <a:solidFill>
                  <a:srgbClr val="17375e"/>
                </a:solidFill>
                <a:latin typeface="Times New Roman"/>
              </a:rPr>
              <a:t>los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r>
              <a:rPr b="1" lang="en-US" sz="3600" spc="-1" strike="noStrike">
                <a:solidFill>
                  <a:srgbClr val="17375e"/>
                </a:solidFill>
                <a:latin typeface="Times New Roman"/>
              </a:rPr>
              <a:t>trophic level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5"/>
          <p:cNvGrpSpPr/>
          <p:nvPr/>
        </p:nvGrpSpPr>
        <p:grpSpPr>
          <a:xfrm>
            <a:off x="0" y="152280"/>
            <a:ext cx="9144000" cy="6631920"/>
            <a:chOff x="0" y="152280"/>
            <a:chExt cx="9144000" cy="6631920"/>
          </a:xfrm>
        </p:grpSpPr>
        <p:sp>
          <p:nvSpPr>
            <p:cNvPr id="101" name="AutoShape 2"/>
            <p:cNvSpPr/>
            <p:nvPr/>
          </p:nvSpPr>
          <p:spPr>
            <a:xfrm>
              <a:off x="0" y="152280"/>
              <a:ext cx="9144000" cy="6629400"/>
            </a:xfrm>
            <a:prstGeom prst="triangle">
              <a:avLst>
                <a:gd name="adj" fmla="val 4975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"/>
            <p:cNvSpPr/>
            <p:nvPr/>
          </p:nvSpPr>
          <p:spPr>
            <a:xfrm>
              <a:off x="990360" y="5410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"/>
            <p:cNvSpPr/>
            <p:nvPr/>
          </p:nvSpPr>
          <p:spPr>
            <a:xfrm>
              <a:off x="1904760" y="396216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>
              <a:off x="2819160" y="266688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1828800" y="5867280"/>
              <a:ext cx="57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ers (Plant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2666880" y="44956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im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590560" y="304776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cond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3657600" y="159984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rti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8001000" y="6324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7086600" y="49528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5"/>
            <p:cNvSpPr/>
            <p:nvPr/>
          </p:nvSpPr>
          <p:spPr>
            <a:xfrm>
              <a:off x="6248520" y="35049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5410080" y="2209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2"/>
          <p:cNvSpPr/>
          <p:nvPr/>
        </p:nvSpPr>
        <p:spPr>
          <a:xfrm>
            <a:off x="6324480" y="763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ing… only </a:t>
            </a:r>
            <a:r>
              <a:rPr b="1" lang="en-US" sz="3600" spc="-1" strike="noStrike">
                <a:solidFill>
                  <a:srgbClr val="17375e"/>
                </a:solidFill>
                <a:latin typeface="Times New Roman"/>
              </a:rPr>
              <a:t>10%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the energy is transfer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99880" y="533520"/>
            <a:ext cx="8715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se questions, then go back to the last slid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f you can answe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you explain what the pyramid in the last slide means to someone el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t how much energy is lost and how much is passed on between trophic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%’s make sense in the pyramid?  Could you explain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160000" y="5446800"/>
            <a:ext cx="501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 if you have question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20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IMG_0550.JPG"/>
          <p:cNvPicPr/>
          <p:nvPr/>
        </p:nvPicPr>
        <p:blipFill>
          <a:blip r:embed="rId1"/>
          <a:stretch/>
        </p:blipFill>
        <p:spPr>
          <a:xfrm>
            <a:off x="-53352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9753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lants, algae and some bacteria can capture solar energy and store it as food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9753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f1de"/>
                </a:solidFill>
                <a:latin typeface="Arial"/>
                <a:ea typeface="Times New Roman"/>
              </a:rPr>
              <a:t>What is this process called?</a:t>
            </a:r>
            <a:r>
              <a:rPr b="1" lang="en-US" sz="3600" spc="-1" strike="noStrike">
                <a:solidFill>
                  <a:srgbClr val="ebf1d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93cddd"/>
                </a:solidFill>
                <a:latin typeface="Calibri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are organisms that produce their own energy through photosynthesis.  They are also known as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totroph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IMG_0539.JPG"/>
          <p:cNvPicPr/>
          <p:nvPr/>
        </p:nvPicPr>
        <p:blipFill>
          <a:blip r:embed="rId1"/>
          <a:stretch/>
        </p:blipFill>
        <p:spPr>
          <a:xfrm>
            <a:off x="2514600" y="236232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48320" y="9907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re organisms that get their energy by eating other organisms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lso known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tro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SC_0307182.jpg"/>
          <p:cNvPicPr/>
          <p:nvPr/>
        </p:nvPicPr>
        <p:blipFill>
          <a:blip r:embed="rId1"/>
          <a:stretch/>
        </p:blipFill>
        <p:spPr>
          <a:xfrm>
            <a:off x="304920" y="457200"/>
            <a:ext cx="39272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228600"/>
            <a:ext cx="9144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identified more specific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im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written shorthand: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– eats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cond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written shorthand: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) – eats primary 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ti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written shorthand: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– eats secondary 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an continue (quaternary (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, etc.) as long as there are more organisms that eat the la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457200" y="225360"/>
            <a:ext cx="83818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t’s plug some organisms into these names to make more sense of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ss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du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cause it makes its energy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lady bug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im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grass which is a produ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rog would b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cond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lady bug which is a primary consu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nake would b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ti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frog which is a secondary consu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We will come back to these examples late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MG_1045.JPG"/>
          <p:cNvPicPr/>
          <p:nvPr/>
        </p:nvPicPr>
        <p:blipFill>
          <a:blip r:embed="rId1"/>
          <a:stretch/>
        </p:blipFill>
        <p:spPr>
          <a:xfrm>
            <a:off x="-38088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mportant:  </a:t>
            </a:r>
            <a:r>
              <a:rPr b="1" lang="en-US" sz="3200" spc="-1" strike="noStrike">
                <a:solidFill>
                  <a:srgbClr val="0d0a10"/>
                </a:solidFill>
                <a:latin typeface="Arial"/>
                <a:ea typeface="Times New Roman"/>
              </a:rPr>
              <a:t>All living things get energy from the sun, some directly and others indirectl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One exception to the rule: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Deep ocean communities that have a bacteria that make energy from Hydrogen Sulfide released through fissures in the ocean floor.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6:38:15Z</dcterms:created>
  <dc:creator>Matthaei, Cari</dc:creator>
  <dc:description/>
  <dc:language>en-US</dc:language>
  <cp:lastModifiedBy>User</cp:lastModifiedBy>
  <dcterms:modified xsi:type="dcterms:W3CDTF">2010-08-31T20:23:55Z</dcterms:modified>
  <cp:revision>7</cp:revision>
  <dc:subject/>
  <dc:title>Ecosystems and Their Interactions  Energy Flow in Ecosystems</dc:title>
</cp:coreProperties>
</file>